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8D7-404D-4522-AD2C-E73CE37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D38-97FD-4D9F-993E-3A5142E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594-CEE0-4165-B41D-4A962680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495-74F9-4CD7-B42B-FD45AAA4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B04-F924-4B7F-B68C-B46E4D00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7D5-2152-4A19-AC35-0054A44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F87-3E13-4E01-8049-A1F7AF8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5B4-FDDC-4CA6-A53A-0C19289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62E-E18F-49CD-9B77-1BB982A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490-5E31-4FA9-A997-3D83E76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36E-3DB9-435F-A502-3AF8A4D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B22-441F-4C70-9AA2-3CED7C69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D15-EE6A-4BDD-9EC2-49CD33C94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56272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253120" y="52228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life was a mis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Arnith</cp:lastModifiedBy>
  <dcterms:modified xsi:type="dcterms:W3CDTF">2011-12-01T22:44:50Z</dcterms:modified>
  <cp:revision>7</cp:revision>
  <dc:subject/>
  <dc:title>Slide 1</dc:title>
</cp:coreProperties>
</file>